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B4E-0813-4EFC-9790-DCEFACE6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878-A8EC-4899-BF22-3B2E75A3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C3D-439A-41D8-91E4-5207D126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BC7-5396-4383-8DC8-A8B4F5BF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0D58-F938-49CB-B835-56DAB483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1BED-3B1A-457A-815A-90C0E9A0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046F-62C4-46FC-8439-0A1F2A8E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0EC1-9F64-428E-9DB6-059D11A4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7779-C7FA-4DDD-A9A9-A4D1962D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8693-4356-43FC-827E-BE20612A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7D5E-1A55-414A-A17B-EEC06EEC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ABB-D551-46F8-AF09-F01ED95B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F130-D719-4359-835D-C97F8196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4353-7B09-42D1-80D3-E9C7A47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0BCB-BE2F-4B7B-BEFB-FD6096DA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7227-BB06-46A1-86F1-010A1F6D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8DF8-CE19-4D90-87F7-8228F0C2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F76-C3EF-49FA-8EDD-D148FE6B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BE1-AEB8-4906-992D-48F5C901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F67-D941-4A2A-9523-FD448107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A76-2EFE-4CBC-BEAB-0746EB55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777-C482-4F90-886F-9250B6FD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337-CC0A-45C3-9C4A-5110D3E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FD3-097C-4A4D-948C-33359332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8023-057B-458B-80F0-DDE180291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ABB0-135E-40BF-B997-ACD7EBB65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izarro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Conquistadors Conques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anda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the encounters between Cortez and Montez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the encounters between Pizarro and the In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the goals of the Spanish conquistad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 the effects of European diseases, particularly smallpox, throughout the Wester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609480" y="609480"/>
            <a:ext cx="8076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ztec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763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ztec capital (Tenochtitlan) located on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a gruesome religion of human sacrifice to the g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located at central Ame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 were polytheistic  and mistook Cortez as a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57880" y="3314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57880" y="3314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144000" y="6324480"/>
            <a:ext cx="53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19051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y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3200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located on the Yucatan Penins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so many major cites made them very hard to conqu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ajor cities coincided of; Tikal, Copan, Jaina, etc (et ceter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yan slaves could sometimes earn their freedom.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33526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c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as lived high up in the Andy‘s M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the largest pre Columbian civiliz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conquistadors arrived they were having civil w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ometimes sacrificed their lamas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rtez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tez captured the Aztec leader, Montezuma to soon kill hi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called Quetzalcoatl by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te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native groups helped him conquer the Azte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67360" y="4419720"/>
            <a:ext cx="2276640" cy="2438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izarr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dnapped Atahualpa and held him for ransom for silver and go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ured Incas and claimed the land to call it “New Spain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ght with 180 men and 27 horses on his sid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422928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Happened Nex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many South Americans speak Span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ztec, Mayan, and Inca religions have almost died ou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there are very few people that are part pre Columbia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14400" y="1828800"/>
            <a:ext cx="6934320" cy="37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END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54:42Z</dcterms:created>
  <dc:creator>jklib</dc:creator>
  <dc:description/>
  <dc:language>en-US</dc:language>
  <cp:lastModifiedBy>jklib</cp:lastModifiedBy>
  <dcterms:modified xsi:type="dcterms:W3CDTF">2011-11-30T16:28:07Z</dcterms:modified>
  <cp:revision>10</cp:revision>
  <dc:subject/>
  <dc:title>The Conquistador's Conquest</dc:title>
</cp:coreProperties>
</file>